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png" ContentType="image/pn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39C-918F-4E76-8812-9F01155B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ABD-F754-4D11-97EC-0867B220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E92-139D-447C-A47E-06A38167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C56-1012-4B59-9603-846D1C71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04A3-EB28-4A15-A75B-BB4F00F1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98E9-4632-470B-9F79-046626A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F802-D49D-4AB9-81F4-B0EABBA4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ADC-946C-4FE3-8172-5BAD56C9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584-F843-401C-996B-49F48ED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B96-C837-471C-8503-12C3A53F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58F3-5AB0-4A85-B5FE-EC7A07A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45E-EFEC-4B94-B934-0F365E46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C98E-159D-4063-8F09-F690CFA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CAA5-9218-4B2B-8705-ADD9324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3DA-3BE4-4402-86A1-E165EFD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DE7B-D0F9-4865-8F6B-B04D6F2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31D0-508A-4F0D-A000-3045359A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49F-4A28-41EB-BE81-DD924223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BE4-D190-43A5-8728-26371C10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EA8-DDA3-49AB-A845-CF8E242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F96-814D-4A0E-A02E-D0E7E4E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D35-DC0F-4D77-953A-089B5917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56F-45A7-4BF7-A802-C47A8B5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BDA-1368-4A5D-B312-A407DCF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4E12-15F8-41E7-8536-5441D11BD8C2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AE3-AC98-49BC-85D6-62F4C8F4F10A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rbrake.wav" TargetMode="External"/><Relationship Id="rId2" Type="http://schemas.microsoft.com/office/2007/relationships/media" Target="file:///tmp/home/.config/libreoffice/4/user/gallery/carbrak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314880"/>
            <a:ext cx="23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Verdana"/>
              </a:rPr>
              <a:t>一、诚实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640" y="1916280"/>
            <a:ext cx="755964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感悟诚信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404640"/>
            <a:ext cx="2664000" cy="6969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主题班会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7522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诚信有好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傻人有傻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很多表面上看起来不可理喻的事，背后其实都是有着清晰的逻辑关系的。西北有个俚词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凤翔改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，意思是很笨很傻的人。词的历史并不悠久，来源也很清楚。解放初期凤翔县有位张姓妇女名叫改改。她没念过书，脑子有些迟钝，在常人眼里是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傻又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女人。长大嫁人后，男人不幸早逝，改改孤苦无依，只好在路边摆了一个卖水摊。改改不识钱，为了不收错钱，她找来一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钱的硬币，一杯水收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，每卖一杯，她就把别人给的钱和这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钱硬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下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了不收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了也不收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纸币当然更不收。旁人都嘲笑她傻，可她依然如故。于是当地人将她视为愚蠢呆傻的代名词，如果有人要骂你笨蛋，干脆就说你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笨得和改改一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。久而久之，这句话竟成了当地人的口头禅。但奇怪的是，像改改这样笨的人，虽然做的是小生意，但生意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越来越好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很多人在她的水摊前驻足观看，有人为了喝上一杯改改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钱”的水，专门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老远赶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甚至于有一天，省上一位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名望的领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也慕名来到了她的水摊前，改改一下子在西北五省都出了名。</a:t>
            </a:r>
            <a:br>
              <a:rPr sz="2400"/>
            </a:b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   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44908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聪明人眼里，改改是个傻瓜，但聪明人可能没有想过，一个连钱都不认识的弱女子，能够在几十年时间里，靠做生意，哪怕是小生意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仅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养活自己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养活了家人，这是为什么。几十年了，多少场政治风波，多少人沉沉浮浮，多少聪明人走投无路。可是改改，无论是连农民卖几个鸡蛋都会被“割资本主义尾巴”的年代，还是在摸着石头过河的改革时期，无论世界怎么风起云涌，改改始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安然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地做着她的生意，衣食无忧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 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 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抱朴守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向来是中国哲学中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最高智慧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傻人有傻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这是民间的经验总结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聪明过头的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往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能长久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算尽机关太聪明，反算了卿卿性命。有志成大器者，不妨向改改学习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36016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0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月的一天，从朋友家出来，打开车门上车抬头一看，雨刷上夹着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哎，一定又是可恶的小广告，顺手取下刚想往外扔，看见上面有几行歪歪扭扭的油笔字：老板对不住了，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小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刮了你的车，可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着送货，不能等您了，留下我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38+++++368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修好后与我联系，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照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赔偿。我急忙下车围着车转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最后在左侧前轮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眉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发现一出刮痕，嗨，小事。   我到了喷漆处只花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块钱就搞好了。然后我对开发票的人说：给我写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元， 拿着收据开车回家，心里那叫一个“美”，嘿嘿，，，小子叫你刮我车，我宰不死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到家后见了老婆，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急不可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把我的打算说了出来，本以为会得到老婆的大加赞赏，没想到平日里见钱眼开，财迷心窍的老婆把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200" y="189000"/>
            <a:ext cx="2787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平凡之中见精神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57436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顿好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晕晕呼呼只记得一句“你不如人家，这样的人现在太少了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”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清醒后一想也是，自己都干了点什么，怎么会有这样的想法，自己虽然不是什么大富豪，但总比一个蹬三轮的强百倍吧，可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思想境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人家差的太多了，想到这不禁一阵脸热， 估计脸红到了脖颈，但还是拿起电话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38++++++36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打了过去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告诉他车是朋友给修的，没花钱， 并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邀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他来我饭店上班，主管进货，这可是美差呀，他说要考虑考虑，说现在的老板对他很好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就这么走了，再说吧。 我相信他的话，这样的人谁都会对他好，但我不会就这么放弃，一次次的给他打电话，人虽然没到我这里，但我们成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很好的朋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直到今天。     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8000" y="1989000"/>
            <a:ext cx="5185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三位留学生的经历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542680"/>
            <a:ext cx="90741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我到法国已快两个月时间，期间发生了几个小故事，折射出法国社会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诚信度之高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    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故事一：初到记者站要与前任交接，因此临时住在一个外租小公寓式旅馆里，这种公寓旅馆不像专门旅馆，设有专职房间服务员，更没有大堂服务，一切事情都靠房客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与房东的一纸合同来规范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。房东交给我一张合同表格，租约的主要条款，特 别是易发生争议的有关房间设备、付款条件、房客应尽的义务、与房主的联系方法等都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一应俱全地写在上面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。具体细节还包括房客付租及交钥匙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61560"/>
            <a:ext cx="90741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的方法，而房客在拿到钥匙后的第一件事就是检查房间设备的缺损情况，如有缺失须打电话告诉房主。我进入房间发现桌子数量不对，当即打电话告诉房主，房主说可在房间设备清单上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注明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结账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时会清理。房东自始至终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未到现场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，仅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通过电话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我们就将这一问题解决了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    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在退房时，我按合同要求打扫房间，包括将冰箱断电，用一块抹布将冰箱门支开这类细节，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都按合同上注明的做了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，因此在结账时，我和房东也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没有任何争议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9280" y="278712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故事二：在住公寓期间，不小心将钥匙掉在屋内，而一阵风又将门关上了，我被关在房门外。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我只好打扰邻居，热情的邻居告诉我房东的电话，并打电话说明了情况。房东先是调侃地问我是否只穿着浴衣，随后告诉我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分钟内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在大门外等，将会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派人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把钥匙送来。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    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我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钟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下楼，房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果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派了一个人坐出租车将钥匙送来。来人并不认识我，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只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报本人姓名，来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即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交给我钥匙。我开完房间门后取出自己的钥匙，再将房东送来的钥匙交还来人</a:t>
            </a:r>
            <a:r>
              <a:rPr b="0" lang="zh-CN" sz="2800" spc="-1" strike="noStrike">
                <a:solidFill>
                  <a:srgbClr val="006699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810880"/>
            <a:ext cx="856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宋体"/>
              </a:rPr>
              <a:t> 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故事三：我到附近的欧尚超市买锅，自认为买了比较实用的一套不锈钢锅。回家打开一看，发现本来应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只锅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个锅盖，里面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</a:rPr>
              <a:t>却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只锅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个锅盖。我当时很犹豫是否再去找他们理赔。当时已到吃饭时间，我也饥饿难耐，同时觉得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</a:rPr>
              <a:t>只大小不同的锅也够用了。于是新锅拿来便用。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    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此后，接连几天有不少东跑西颠的杂事，一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拖了一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之后才得机会再去欧尚超市。我拿出购物小票，接待我的那位先生说最好能将所有的锅和包装箱拿过来。我说明已经开箱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使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059200"/>
            <a:ext cx="85694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周了，如果这是一个获得补救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必要条件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那么我可以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放弃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要求。此外，我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说明了自己的分析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：箱子里缺两只锅，可能是这两口锅被当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样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摆在了柜台上，而我取货时没有开箱检查。接待我的先生听后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话没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拿起电话与货架服务员通了几句话后，对我说：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请您去货架把缺的锅拿过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”我从货架上将锅拿来，接待人员在我的原购物小票上签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说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已经补货，整个过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钟时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47640" y="1628640"/>
            <a:ext cx="532944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中国古人诚信故事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33336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案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一位在德国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名牌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大学留学的中国学生，虽然获得了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博士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学位，专业是热门的计算机软件设计，但在德国却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找不到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工作。他每到一个企业应聘，主管看了他的材料都很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满意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，但一打开电脑查询他的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信用记录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，马上表示“很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遗憾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，我们不能用您”。原来这位博士生初到德国时因经济紧张经常坐车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逃票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”，因为德国的公交车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不查票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，只是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偶尔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有稽查员上车检查，被查到的概率很小。有一次实在不巧被查到了，在补交票款后被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333360"/>
            <a:ext cx="86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了证件号码，想不到从此有了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不良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信用记录”，哪怕他学历再高技术再精也没有企业会用他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一中国留学生在日本餐馆洗盘子。日本餐饮业规定盘子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必须洗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七次。此留学生却很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聪明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”地少洗两次，工钱自然也挣了不少。 老板发现了问题，把他辞退。他又到社区的另一家餐馆应聘。这位老板打量了他半天说：“你就是那位只洗五遍盘子的中国留学生吧。对不起，我们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不需要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！”第二家、第三家……他屡屡碰壁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47640" y="2133720"/>
            <a:ext cx="60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听了这些故事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有何感想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763640" y="1557360"/>
            <a:ext cx="540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诚实是做人的基本准则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63640" y="3645000"/>
            <a:ext cx="5616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诚实应成为一个人的习惯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403280" y="2565360"/>
            <a:ext cx="60642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人不信于一时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则不信于一世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908000" y="2205000"/>
            <a:ext cx="511200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商场中的诚信故事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50920" y="2205000"/>
            <a:ext cx="46087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外国人经营之道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30459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斯图尔特先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美国著名企业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)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认为，顾客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有权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知道真相，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不管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这样做会给商家带来什么后果，任何职员都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不得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在任何方面误导顾客，或者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隐瞒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商品可能存在的任何缺陷。他曾经向一个职员询问某种新款商品的销售情况，职员告诉他：这种商品设计得不太好，某些方面还相当差。这个年轻人拿着样品对斯图尔特先生描述着它的缺陷，这时，一个来自美国内陆的大客户走过来问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“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你今天有没有质量上乘的新东西给我看呢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60280"/>
            <a:ext cx="662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决不欺骗顾客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0920" y="20847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年轻的推销员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马上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说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“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是的，先生，我们刚刚做出了一种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恰好适合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您需要的产品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PMingLiU"/>
              </a:rPr>
              <a:t>”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他一边说一边把那个有问题的样品递给顾客。他对这种产品的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赞赏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听起来非常诚心诚意，于是顾客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马上决定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订购一大批。一直默默旁观的斯图尔特先生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插话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了，他告诫这位顾客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不要急于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订货，再好好检查一下。然后他让这个年轻人到财务部门</a:t>
            </a:r>
            <a:r>
              <a:rPr b="1" lang="zh-TW" sz="3200" spc="-1" strike="noStrike">
                <a:solidFill>
                  <a:srgbClr val="ff0000"/>
                </a:solidFill>
                <a:latin typeface="宋体"/>
                <a:ea typeface="PMingLiU"/>
              </a:rPr>
              <a:t>结算</a:t>
            </a:r>
            <a:r>
              <a:rPr b="1" lang="zh-TW" sz="3200" spc="-1" strike="noStrike">
                <a:solidFill>
                  <a:srgbClr val="0000ff"/>
                </a:solidFill>
                <a:latin typeface="宋体"/>
                <a:ea typeface="PMingLiU"/>
              </a:rPr>
              <a:t>工资，因为从现在开始他不再是公司的员工了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5280" y="2678760"/>
            <a:ext cx="828036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日本著名的企业家吉田忠雄在回顾自己的创业成功经验时说过，为人处事首先要讲求诚实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诚待人才会赢得别人的信任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离开这一点，一切都成了无根之花，无本之本。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    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在他创业的初期，他曾经做过一家小电器商行的推销员。开始的时候，他做得并不顺利，很长时间业务并没有什么起色，但他并没有灰心，而是坚持做下去。有一次，他推销出去了一种剃须刀，半个月内同二十几位顾客做成了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30760" y="260280"/>
            <a:ext cx="3000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日本人创业故事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36950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曾子是个非常诚实守信的人。有一次，曾子的妻子要去赶集，孩子哭闹着也要去。妻子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哄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孩子说，你不要去了，我回来杀猪给你吃。她赶集回来后，看见曾子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要杀猪，连忙上前阻止。曾子说，你</a:t>
            </a:r>
            <a:r>
              <a:rPr b="1" lang="zh-CN" sz="3600" spc="-1" strike="noStrike">
                <a:solidFill>
                  <a:srgbClr val="990000"/>
                </a:solidFill>
                <a:latin typeface="宋体"/>
              </a:rPr>
              <a:t>欺骗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了孩子，孩子就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信任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你。说着，就把猪杀了。曾子不欺骗孩子，也培养了孩子讲信用的品德。</a:t>
            </a:r>
            <a:r>
              <a:rPr b="0" lang="zh-CN" sz="2800" spc="-1" strike="noStrike">
                <a:solidFill>
                  <a:srgbClr val="006699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00" y="476280"/>
            <a:ext cx="2086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曾子杀猪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2984400"/>
            <a:ext cx="8280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生意，但是后来突然发现，他所推销的剃须刀比别家店里的同类型产品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</a:rPr>
              <a:t>价格高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，这使他深感不安。经过深思熟虑，他决定向这二十家客户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</a:rPr>
              <a:t>说明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情况，并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</a:rPr>
              <a:t>主动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要求向各家客户退还价款上的差额。他的这种以诚待人的做法深深感动了客户，他们不但没收价款差额，反而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</a:rPr>
              <a:t>主动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要求向吉田忠雄订货，并在原有的基础上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</a:rPr>
              <a:t>增添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</a:rPr>
              <a:t>了许多新品种。这使吉田忠雄的业务数额急剧上升，很快得到了公司的奖励，这给他以后自己创办公司打下了良好的基础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30760" y="260280"/>
            <a:ext cx="3000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日本人创业故事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03280" y="2205000"/>
            <a:ext cx="59054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中国商场中的诚信故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9640" y="1125360"/>
            <a:ext cx="7991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00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年中秋节前，南京冠生园食品厂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陈馅经翻炒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后制成月饼出售的事件，被中央电视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曝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《中国商报》也对“月饼事件”进行了系列报道。南京冠生园月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顿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无人问津，很快被各地商家撤下柜台。许多商场甚至向消费者承诺：已经售出的冠生园月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条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退货。南京冠生园的其他产品如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4800" y="0"/>
            <a:ext cx="511848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享誉七十年的老企业破产了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689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1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640" y="549360"/>
            <a:ext cx="799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元宵、糕点等很快受到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株连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”，没人敢要。南京冠生园从此一蹶不振。住在南京冠生园食品厂附近的居民说：“从前这里车水马龙，很是热闹，真没想到，一个享誉七十年的老企业一下子就垮了。”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月，南京冠生院向法院提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破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申请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68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9280" y="333360"/>
            <a:ext cx="8964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隶书"/>
              </a:rPr>
              <a:t>温州皮鞋”的起落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在上世纪的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80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年代温州皮鞋又叫“一鞋”“晨昏鞋”，假冒伪劣的品质引起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全国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消费者的公愤，以至于很多商场贴出“本店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无温州鞋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”的安民告示。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1987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年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月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日在杭州武林广场，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5000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多双温州劣质皮鞋被市民扔进熊熊大火。这把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火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烧醒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了温州人的诚信意识。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年后，温州人用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诚信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重新拾起了温州皮鞋失落的尊严，在“中国十大鞋王”中，温州皮鞋有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三大品牌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名列其中。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2002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年温州人又将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日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这个倍感屈辱的日子确定为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诚信日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</a:rPr>
              <a:t>”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5076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1238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4824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著名的联想集团，得知他们生产三款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V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笔记本电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有质量问题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没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隐瞒、逃避，而是作出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召回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公告，召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V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笔记本电脑用户，同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承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三款笔记本电脑用户“免费检测，维修或更换”。虽然召回对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V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笔记本电脑的销售会带来不利影响，但外界对联想集团的行动却给予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肯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评价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152360" cy="708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09080" y="4876920"/>
            <a:ext cx="934920" cy="865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20200" y="260280"/>
            <a:ext cx="2787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联想集团的态度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627280" y="2060640"/>
            <a:ext cx="3457440" cy="16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请你抉择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575440"/>
            <a:ext cx="91440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數年前有一名座椅製造商雇用一批年輕人，以手工來製造椅子。商人依據每人製作出來的椅子數量，每週付款一次，但有一個條件：每一張椅子要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合格檢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後，工人才能取得應獲的工資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這名製造商非常留意其中兩名青年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PMingLiU"/>
              </a:rPr>
              <a:t>----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羅富士及何漢勵。這兩個人每週都分別造出很多好的椅子，而且</a:t>
            </a:r>
            <a:r>
              <a:rPr b="1" lang="zh-TW" sz="2400" spc="-1" strike="noStrike">
                <a:solidFill>
                  <a:srgbClr val="ff0000"/>
                </a:solidFill>
                <a:latin typeface="宋体"/>
                <a:ea typeface="PMingLiU"/>
              </a:rPr>
              <a:t>很少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有不合格的情形。隨著時光的流轉，製造商需要找一位監工了。他想到了要從這兩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PMingLiU"/>
              </a:rPr>
              <a:t>----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羅富士及何漢勵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PMingLiU"/>
              </a:rPr>
              <a:t>----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之中選出一位來擔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如果你是那名製造商，你怎麼決定呢？那名製造商是這樣做的：它將所有工人召集起來，並宣佈為了趕工，</a:t>
            </a:r>
            <a:r>
              <a:rPr b="1" lang="zh-TW" sz="2400" spc="-1" strike="noStrike">
                <a:solidFill>
                  <a:srgbClr val="ff0000"/>
                </a:solidFill>
                <a:latin typeface="宋体"/>
                <a:ea typeface="PMingLiU"/>
              </a:rPr>
              <a:t>只要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椅子造好了，不必管是否通過檢驗，它都計件付酬。於是，椅子的產量大大的增加了，但相對的椅子的</a:t>
            </a:r>
            <a:r>
              <a:rPr b="1" lang="zh-TW" sz="2400" spc="-1" strike="noStrike">
                <a:solidFill>
                  <a:srgbClr val="ff0000"/>
                </a:solidFill>
                <a:latin typeface="宋体"/>
                <a:ea typeface="PMingLiU"/>
              </a:rPr>
              <a:t>不合格率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也增加了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這時，製造商特別去檢查羅富士及何漢勵所做的椅子。結果，羅富士所做的椅子之品質跟往常</a:t>
            </a:r>
            <a:r>
              <a:rPr b="1" lang="zh-TW" sz="2400" spc="-1" strike="noStrike">
                <a:solidFill>
                  <a:srgbClr val="ff0000"/>
                </a:solidFill>
                <a:latin typeface="宋体"/>
                <a:ea typeface="PMingLiU"/>
              </a:rPr>
              <a:t>一樣的好</a:t>
            </a: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，但何漢勵在新政策下做的椅子卻有</a:t>
            </a:r>
            <a:r>
              <a:rPr b="1" lang="zh-TW" sz="2400" spc="-1" strike="noStrike">
                <a:solidFill>
                  <a:srgbClr val="ff0000"/>
                </a:solidFill>
                <a:latin typeface="宋体"/>
                <a:ea typeface="PMingLiU"/>
              </a:rPr>
              <a:t>一半不合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PMingLiU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9480" y="316080"/>
            <a:ext cx="5270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4840" y="189000"/>
            <a:ext cx="2207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选谁呢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352680" y="380880"/>
            <a:ext cx="5181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投资论坛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A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700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某地的一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著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烧鹅的厂家，联系到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出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业务，要求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内交货。由于时间很紧，于是全厂职工努力工作，力争完成任务。在离交货日期还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星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时候，有一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坏了，要完成任务，必须要加班加点。如果你是老总，你会怎么做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5661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让工人加班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加班，和外商解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16002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工人们听了老总的话，决定加班加点。可是包装工人小华因为加班不能给朋友过生日，心生恶念，一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把一只烧鹅的腿撕下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，然后若无其事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包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起来。在全部整装待发时，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不去，报告了厂长。此时货物已经全部装上开往港口的火车。这时你是厂长会怎么办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缷货找到少腿的烧鹅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算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352680" y="380880"/>
            <a:ext cx="5181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投资论坛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A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692360" y="2133720"/>
            <a:ext cx="511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国外名人诚信故事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00000" y="15573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该厂把所有的货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装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全厂职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昼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找到了那只少腿的烧鹅，但是因此推迟了交货的时间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赔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违约金。这趟生意不但没有赚还赔了许多。可是外方知道这件事后，和该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签定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供货合同，为此该厂的品牌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加响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352680" y="380880"/>
            <a:ext cx="5181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投资论坛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A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908000" y="2421000"/>
            <a:ext cx="54723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守信是企业生存之本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116000" y="4005360"/>
            <a:ext cx="66294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诚实守信是无价之宝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484360" y="1628640"/>
            <a:ext cx="36720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勿因小失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69080" y="4648320"/>
            <a:ext cx="1474920" cy="2209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4360" y="1989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社会上总会存在不完美、不理想的状况，这才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需要品德高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人去推动社会进步。弄虚作假、坑蒙拐骗的人是社会的蛀虫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必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受到惩罚。我们应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从自己做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以自己的道德行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改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社会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8001000" y="2895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71640" y="549360"/>
            <a:ext cx="363204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坚守诚信的绿洲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3657600" y="228600"/>
            <a:ext cx="4038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感受诚信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1523880"/>
            <a:ext cx="88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盘古说：诚信是开天的巨斧。　　女娲说：诚信是补天的五彩晶石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牛顿说：诚信是我的三大定律。　爱因斯坦说：诚信是我的相对论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愚者说：诚信是伪君子的假惺惺。智者说：诚信是人类闪光的金子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哲人说：诚信是世间万物的源泉。妈妈说：诚信是做人的准则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老师说：诚信是成长的基准。　　朋友说：诚信是交友的基础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544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说：诚信是＿＿＿＿＿＿＿＿＿＿＿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547640" y="476280"/>
            <a:ext cx="432144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我应该怎样做</a:t>
            </a: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692360" y="2205000"/>
            <a:ext cx="29509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不要轻易许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3645000"/>
            <a:ext cx="411480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答应的事一定要做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835280" y="4941720"/>
            <a:ext cx="373356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特殊原因即早说明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81480" cy="5486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27280" y="907920"/>
            <a:ext cx="52578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我宣誓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言必行，行必果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知之为知之，不知为不知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以诚信换取诚信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以诚信收获成功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用诚信开启知识之窗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用诚信鼓起上进之帆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我诚信，我光荣；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我诚信，我自尊；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我诚信，我成功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1034640" y="2770920"/>
            <a:ext cx="44434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诚信宣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572680" y="609588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9640" y="2421000"/>
            <a:ext cx="7201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让诚信之花在初三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(10)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班永开不败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!!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987640" y="1052640"/>
            <a:ext cx="2592360" cy="91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宋体"/>
              </a:rPr>
              <a:t>感谢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3068640"/>
            <a:ext cx="755964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宋体"/>
              </a:rPr>
              <a:t>各位老师的光临指导</a:t>
            </a:r>
            <a:r>
              <a:rPr b="1" lang="zh-CN" sz="6000" spc="-1" strike="noStrike">
                <a:solidFill>
                  <a:srgbClr val="006699"/>
                </a:solidFill>
                <a:latin typeface="宋体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855880"/>
            <a:ext cx="89647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梅耶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·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安塞姆是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赫赫有名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的罗特希尔德家族财团的创始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.18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世纪末，他生活在法兰克福著名的犹太人街道上，他的同胞们往往在那里遭到令人发指的迫害。虽然关押他们的房门已经被拿破仑推倒了，那时他们仍然被迫在规定时间回到家里，否则将被处以死刑。他们过着卑微和屈辱的生活，生命的尊严遭到践踏，在这种环境下，犹太人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很难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保持诚实。但实践证明，安塞姆不是一个普通的犹太人。他在一个不起眼的角落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创建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了自己的事务所，挂了一个红盾，他称之为罗特希尔德，在德语中的意思是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“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红盾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”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。他在这里做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借贷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生意，迈出了创办横跨欧陆的大型银行集团的第一步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525320"/>
            <a:ext cx="896472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宋体"/>
                <a:ea typeface="PMingLiU"/>
              </a:rPr>
              <a:t>　　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当拿破仑把兰德格里夫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·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威廉从赫斯卡塞尔地区的地产上赶走的时候，威廉还有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500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万银币，他把这笔钱交给了安塞姆。当时，侵略者随时会把这笔钱没收。安塞姆精明地把钱埋在后花园里，等敌人撤退后，他再以合适的利率把它们贷出去。威廉返回时，安塞姆差遣大儿子把这笔钱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连本带息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还给了他，还附了一张明细账目表，使威廉喜出望外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　　在罗特希尔德家族世世代代的成员中，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没有一个人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给家族的诚实的名誉抹过黑，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不管在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生活上还是在事业上。如今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“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罗特希尔德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”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这个品牌的价值</a:t>
            </a:r>
            <a:r>
              <a:rPr b="1" lang="zh-TW" sz="3600" spc="-1" strike="noStrike">
                <a:solidFill>
                  <a:srgbClr val="ff0000"/>
                </a:solidFill>
                <a:latin typeface="宋体"/>
                <a:ea typeface="PMingLiU"/>
              </a:rPr>
              <a:t>高达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PMingLiU"/>
              </a:rPr>
              <a:t>4</a:t>
            </a:r>
            <a:r>
              <a:rPr b="1" lang="zh-TW" sz="3600" spc="-1" strike="noStrike">
                <a:solidFill>
                  <a:srgbClr val="0000ff"/>
                </a:solidFill>
                <a:latin typeface="宋体"/>
                <a:ea typeface="PMingLiU"/>
              </a:rPr>
              <a:t>亿美金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0052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世界上最早的通讯社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－－路透社创办人保尔朱利叶斯 路透的故事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路透生于德国，十几岁时父亲就去世了，他在其叔父开设的银行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跑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工作。有一天，银行派他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鼎鼎大名的数学家高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家中取款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路透在完成工作回到银行仔细清点钱的数目时，这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到高斯多给了三百马克，这在当时算是一比不小的数目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是路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急急忙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又回去高斯家中，然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恭敬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对高斯说：「先生，你先前给我的钱数目错了……」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斯由于正在忙着一道公式解答，头也没抬的大声说：「我是知名的数学家，就这么一点小小的数目，我会算错？况且我已经把钱交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310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给你很久了，你现在还跑来跟我说数目不对……我们早已银货两讫、互不相欠了。」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路透只好说：「好吧！既然您这样说，那您多给的三百马克我不用还了。」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当然，最后路透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还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将多出来的三百马克还给了高斯。而高斯经过这次事件，也收敛了不少傲气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诚实是人类的重要德行之一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拥有诚实的心性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心中一片坦荡光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自然能够带领我们走向成功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8000" y="1989000"/>
            <a:ext cx="48960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普通人诚信故事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5:21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7:04Z</dcterms:modified>
  <cp:revision>26</cp:revision>
  <dc:subject>主题班会课件(分28大类): http://shop62905894.taobao.com</dc:subject>
  <dc:title>主题班会课件(分28大类): http://shop62905894.taobao.com</dc:title>
</cp:coreProperties>
</file>